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CCD-9B2C-4725-BB34-B73F7359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3B7-98B8-4A9D-9CA6-F558E591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243-1303-4646-9CC1-018E1DD5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372-5458-483D-A6F4-6D739E94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65A2-525E-4915-80D9-426EA8A6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0D6B-DEC9-4E16-A4D7-A41E23F4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59F7-13C4-4AA7-BBF0-3EEE4E84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64D2-7451-4C17-ACD8-DD56ABF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F8FF-3467-40FA-9FB3-40D6F2C4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D4CD-D4EA-43A1-8625-2953BD71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90B5-BB8F-40EF-92F7-31BD3837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079-F717-47DC-AF99-E9AE8C90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2B30-EF66-400C-A83B-510680D4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EF5B-6165-42F3-AEED-99B2494A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393-A77A-460D-BDCB-51AF8FF8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07FA-EB2F-44E0-B3B6-376DCE3F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3564-E058-472A-A45B-288A0323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5577-DBE1-42D1-BDEB-C4EBF998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4B6C-EDBF-4DDC-9826-717F8AAF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9D304-1F19-4C82-BF21-3444F010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6DE8-2E2A-47D0-AA2C-ABAE15A3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96FBE-D0CA-416A-88FD-C977282B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281-FF1B-48F2-9D50-704807EC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E243-442E-49D3-B01F-2D2D0E2D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41EC-4E8F-4836-B3CF-5ECAFD9F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8440-AAAE-445F-BD66-ED798508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7A4C-334F-4277-9E89-57C08C91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0D3F-0DFF-40AE-A20E-539D1920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B32B-E71A-420D-BED0-21CEEE5F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2558A-631E-4B04-99D3-EF8CE2AC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777E-2315-4647-9BBA-48106F0C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EE14-41C0-4A74-8993-A69029FF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603A-3614-49AF-83BC-CDCDFC91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C48-2B6C-435B-965B-727581A9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0DE1-4CA5-4769-8780-A7C0D3B7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C5AAD-671C-477E-8C5B-C0B4CC75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B99F1-FC87-455C-906B-7CE5D989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9D291-7DB5-4AE0-84A4-47719CBD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2E0F-FFD1-4AE3-8563-701B2F42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4406A-F1DB-431C-BE54-787032E5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E7FB-001D-417B-B58D-09FEA77B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A6A45-1F5B-4E92-9834-905F5EF8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935D9-F576-4419-B865-389804B0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85F3E-5B28-4497-8ADC-34BC2AFD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ABA-709D-4B32-9F1A-BDB6C374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B61B2-50E3-467F-8A0E-37829DC8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E97C2-E0A9-41ED-A9B6-2DCE81D5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3D0C-1863-4DA0-ADF4-A3366F15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B43A3-E1A1-4491-A688-4E83B3B8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8E7D1-9677-413B-ACED-7B3F438B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DDE13-CC2A-4886-9916-366434C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492CA-1F5C-4E9B-B9CA-B3F7E67C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63103-C760-44C7-AA2E-0657C4E3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1A94F-0C4E-4F23-95BC-3B5AEAEE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73ED6-9544-4846-A153-083A205D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907-551B-4029-9D02-02EF87DF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4280-C52B-4969-8EBD-68B1F99E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41B6B-DC9C-4B19-83A2-3E99FC42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7D59F-247F-492F-AE11-0DF97E93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7E04B-1452-478A-89A7-3DEEE1BC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53767-3152-4233-A5DE-3CD5D223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1E323-B595-4E5E-871A-1389AA68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0B6D0-7691-4502-9724-244F70C6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2238E-88FC-4B8B-88DF-9641BDC5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6F0C8-B654-46DB-B060-88B186C4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6FA55-96DF-4B3A-9A12-DF1C8E0C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350-2C00-4862-9E84-1E6BEEDE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22AFE-D69B-4660-A503-B6EB4471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D14325-CFC1-412A-B16A-6246DDE8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75C57-003F-41B1-9EDD-01C4F244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4AEAD-9D24-401E-8F2A-240B31F3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89B20-1F2B-424A-9F4A-1F775220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DEA54-E4CB-4A44-B1CE-DB7417E8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66B2F-AD13-493C-A643-A0D2F16A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941C2-BB91-4418-A2FA-02A3FD82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C7FCE-3FC5-4E0C-A0FF-7D2503A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6ED22-E7F0-4336-80AC-CFB78524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ABD-0F7C-4028-87C2-C2518215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0430-3DC2-40E9-B035-FA4E714A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D8BAE-FA4F-4DAB-B0B0-39CCD6C9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4833D-E202-467B-8469-642F0883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53CF8-B349-467A-A079-1025AFC6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59B38-3824-4C5C-B9AA-925E3619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278-C297-45C8-AE31-86E7CE37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FC08-D9D1-41A8-B408-D31DD16875EE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CDF3-307A-4C17-9C91-A5CEF889798A}" type="slidenum">
              <a:rPr b="0" lang="en-CA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EFAE-6BCA-43D7-8341-963BE1269112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631B-CF98-416F-A4CC-B472C82461AA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54D3-4EA6-49F1-B768-ED7C85D41EE7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5CCE-6336-4E99-9795-6910C2239AA7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FF56-FC2B-49AE-8B9A-183D0E73E197}" type="slidenum">
              <a:rPr b="0" lang="en-CA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6b7d72"/>
                </a:solidFill>
                <a:latin typeface="Book Antiqua"/>
              </a:rPr>
              <a:t>A FUTURE IS YOURS TO GI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564b3c"/>
                </a:solidFill>
                <a:uFillTx/>
                <a:latin typeface="Century Gothic"/>
              </a:rPr>
              <a:t>There is a crisis in Ontario,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564b3c"/>
                </a:solidFill>
                <a:latin typeface="Century Gothic"/>
              </a:rPr>
              <a:t>EVERY 3 DAYS, SOMEONE IN THE PROVINCE DIES UNNECESSARILY </a:t>
            </a:r>
            <a:r>
              <a:rPr b="0" lang="en-CA" sz="4400" spc="-1" strike="noStrike">
                <a:solidFill>
                  <a:srgbClr val="ff0000"/>
                </a:solidFill>
                <a:latin typeface="Century Gothic"/>
              </a:rPr>
              <a:t>WHILE WAITING FOR AN ORGAN TRANSPLANT</a:t>
            </a:r>
            <a:endParaRPr b="0" lang="en-US" sz="4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6b7d72"/>
                </a:solidFill>
                <a:latin typeface="Book Antiqua"/>
              </a:rPr>
              <a:t>A FUTURE IS YOURS TO GI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 u="sng">
                <a:solidFill>
                  <a:srgbClr val="564b3c"/>
                </a:solidFill>
                <a:uFillTx/>
                <a:latin typeface="Century Gothic"/>
              </a:rPr>
              <a:t>At this very moment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entury Gothic"/>
              </a:rPr>
              <a:t>THERE ARE ALMOST </a:t>
            </a:r>
            <a:r>
              <a:rPr b="1" lang="en-CA" sz="3000" spc="-1" strike="noStrike">
                <a:solidFill>
                  <a:srgbClr val="ff0000"/>
                </a:solidFill>
                <a:latin typeface="Century Gothic"/>
              </a:rPr>
              <a:t>1700 ONTARIO RESIDENTS – </a:t>
            </a:r>
            <a:r>
              <a:rPr b="0" lang="en-CA" sz="3000" spc="-1" strike="noStrike">
                <a:solidFill>
                  <a:srgbClr val="000000"/>
                </a:solidFill>
                <a:latin typeface="Century Gothic"/>
              </a:rPr>
              <a:t>MEN, WOMEN AND CHILDREN, WHO ARE WAITING FOR A LIFE-SAVING ORGAN TRANSPLANT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entury Gothic"/>
              </a:rPr>
              <a:t>THE SAD REALITY IS THAT MANY DIE BEFORE A MATCHING ORGAN BECOMES AVAILABLE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6b7d72"/>
                </a:solidFill>
                <a:latin typeface="Book Antiqua"/>
              </a:rPr>
              <a:t>A FUTURE IS YOURS TO GI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564b3c"/>
                </a:solidFill>
                <a:uFillTx/>
                <a:latin typeface="Century Gothic"/>
              </a:rPr>
              <a:t>THE ORGAN DONATION RATE IN ONTARIO IS ON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Century Gothic"/>
              </a:rPr>
              <a:t>13 DONORS PER MILLION POPULATION, </a:t>
            </a:r>
            <a:r>
              <a:rPr b="0" lang="en-CA" sz="3200" spc="-1" strike="noStrike">
                <a:solidFill>
                  <a:srgbClr val="000000"/>
                </a:solidFill>
                <a:latin typeface="Century Gothic"/>
              </a:rPr>
              <a:t>LESS THAN HALF OF WHAT IT SHOULD BE.  THAT MEANS THAT PEOPLE WHO COULD LIVE- IF THEY HAD A NEW HEART, LUNG, LIVER, KIDNEY, PANCREAS OR SMALL BOWEL- SIT ON A WAITING LIST, HOPING FOR A DONOR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971280" y="155736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entury Gothic"/>
              </a:rPr>
              <a:t>A CLOSER LOOK AT ORGAN DONATION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Book Antiqua"/>
              </a:rPr>
              <a:t>ONE LIFE… MANY GIFTS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8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000000"/>
                </a:solidFill>
                <a:latin typeface="Book Antiqua"/>
              </a:rPr>
              <a:t>ONE LIFE… MANY GIF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Every day, Ontario families experiencing heartbreak are asked about donating the organs and tissues of their loved ones who have just died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It takes great courage to reach out and help someone else when you are in deep distress yourself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Sometimes, families choose not to donat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000000"/>
                </a:solidFill>
                <a:latin typeface="Book Antiqua"/>
              </a:rPr>
              <a:t>ONE LIFE…MANY GIF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It may be because they don’t understand the process, because they had never discussed donation, or because they did not know the wishes of their loved on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ONE LIFE…MANY GIFTS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WHAT DOES THIS PROGRAM OFFER??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Dispels the myths that may prevent someone from considering donat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Increases knowledge and understanding about donation and the success of transplantat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Gothic"/>
              </a:rPr>
              <a:t>Encourages family members to discuss this important topic and communicate their wishes to one anothe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ONE LIFE…MANY GIFTS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WHAT DOES THIS PROGRAM OFFER??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Gothic"/>
              </a:rPr>
              <a:t>MOST IMPORTANTLY THIS PROGRAM ASSISTS STUDENTS IN MAKING INFORMED DECISIONS ABOUT ORGAN DONAT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2:19:34Z</dcterms:created>
  <dc:creator>Jason</dc:creator>
  <dc:description/>
  <dc:language>en-US</dc:language>
  <cp:lastModifiedBy>Jason</cp:lastModifiedBy>
  <dcterms:modified xsi:type="dcterms:W3CDTF">2010-11-09T04:25:37Z</dcterms:modified>
  <cp:revision>3</cp:revision>
  <dc:subject/>
  <dc:title>One life… many gifts</dc:title>
</cp:coreProperties>
</file>